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7.jpeg" ContentType="image/jpeg"/>
  <Override PartName="/ppt/media/image20.png" ContentType="image/png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gif" ContentType="image/gi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07D-545B-4495-BDC8-61E52660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834-C161-478A-BBB4-B131CA1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1CE-C549-4122-A961-31881C9A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FCE-5A7F-4A44-B462-E8FB5FC3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657-77E6-417B-9929-0D9709B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056-C366-4F97-AB13-D838438B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27D-FD9C-4FB9-8397-3A66E83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A49-7878-4DB2-AEE8-CEC8E6FA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14E-DE71-41DA-8598-9B947ECC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97E-4F45-4FF8-890D-5704E11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AD0-8F38-43FA-A91B-6BF91A0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89C-E28B-4536-8BA2-4D77960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C4B-9BF8-449B-A865-78CB237F7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2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3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4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5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6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7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8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9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0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1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2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3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4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5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6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7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8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9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20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755640" y="907920"/>
            <a:ext cx="76201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数学的天地里，重要的不是我们知道什么，而是我们怎么知道什么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毕达哥拉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8"/>
          <p:cNvSpPr txBox="1"/>
          <p:nvPr/>
        </p:nvSpPr>
        <p:spPr>
          <a:xfrm>
            <a:off x="1197000" y="466560"/>
            <a:ext cx="223200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试一试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040560" y="14778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利用数轴求下列不等式组的解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003640" y="22766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003640" y="270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4067280" y="24922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4287960" y="2708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577960" y="3676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5602320" y="4221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517840" y="39592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1744560" y="3968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5549760" y="36640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670120" y="4187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5489640" y="39466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716360" y="39560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835280" y="220500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1908000" y="27813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1619280" y="24210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190520" y="2492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6" descr="7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3"/>
          <p:cNvGrpSpPr/>
          <p:nvPr/>
        </p:nvGrpSpPr>
        <p:grpSpPr>
          <a:xfrm>
            <a:off x="1143000" y="4091040"/>
            <a:ext cx="6769080" cy="516240"/>
            <a:chOff x="1143000" y="4091040"/>
            <a:chExt cx="6769080" cy="516240"/>
          </a:xfrm>
        </p:grpSpPr>
        <p:sp>
          <p:nvSpPr>
            <p:cNvPr id="124" name="Line 34"/>
            <p:cNvSpPr/>
            <p:nvPr/>
          </p:nvSpPr>
          <p:spPr>
            <a:xfrm>
              <a:off x="1401840" y="416412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2338200" y="4379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3489120" y="409104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435456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>
              <a:off x="5146560" y="409104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593892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2698560" y="409104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1"/>
            <p:cNvSpPr/>
            <p:nvPr/>
          </p:nvSpPr>
          <p:spPr>
            <a:xfrm>
              <a:off x="190656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>
              <a:off x="680256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1143000" y="420840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6"/>
          <p:cNvSpPr/>
          <p:nvPr/>
        </p:nvSpPr>
        <p:spPr>
          <a:xfrm>
            <a:off x="2338560" y="437976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122560" y="373068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625840" y="4094280"/>
            <a:ext cx="141120" cy="141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698920" y="364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2698920" y="364500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5146560" y="3428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146560" y="34290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2157480" y="9144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2173320" y="1425600"/>
            <a:ext cx="24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7"/>
          <p:cNvSpPr/>
          <p:nvPr/>
        </p:nvSpPr>
        <p:spPr>
          <a:xfrm>
            <a:off x="2097000" y="1197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1222560" y="1206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838080" y="22860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3" descr=""/>
          <p:cNvPicPr/>
          <p:nvPr/>
        </p:nvPicPr>
        <p:blipFill>
          <a:blip r:embed="rId1"/>
          <a:stretch/>
        </p:blipFill>
        <p:spPr>
          <a:xfrm>
            <a:off x="5146560" y="3659040"/>
            <a:ext cx="2473560" cy="513000"/>
          </a:xfrm>
          <a:prstGeom prst="rect">
            <a:avLst/>
          </a:prstGeom>
          <a:ln w="0">
            <a:noFill/>
          </a:ln>
        </p:spPr>
      </p:pic>
      <p:sp>
        <p:nvSpPr>
          <p:cNvPr id="147" name="Oval 14"/>
          <p:cNvSpPr/>
          <p:nvPr/>
        </p:nvSpPr>
        <p:spPr>
          <a:xfrm>
            <a:off x="5075280" y="4095720"/>
            <a:ext cx="129960" cy="13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5"/>
          <p:cNvSpPr/>
          <p:nvPr/>
        </p:nvSpPr>
        <p:spPr>
          <a:xfrm>
            <a:off x="5205240" y="4172040"/>
            <a:ext cx="24148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2819520" y="5562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838080" y="4800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的解集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8" descr="20051014210567908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9" descr="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0"/>
          <p:cNvSpPr txBox="1"/>
          <p:nvPr/>
        </p:nvSpPr>
        <p:spPr>
          <a:xfrm>
            <a:off x="5181480" y="106668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同大取大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remove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9"/>
          <p:cNvGrpSpPr/>
          <p:nvPr/>
        </p:nvGrpSpPr>
        <p:grpSpPr>
          <a:xfrm>
            <a:off x="1576440" y="3855960"/>
            <a:ext cx="6769080" cy="516240"/>
            <a:chOff x="1576440" y="3855960"/>
            <a:chExt cx="6769080" cy="516240"/>
          </a:xfrm>
        </p:grpSpPr>
        <p:sp>
          <p:nvSpPr>
            <p:cNvPr id="155" name="Line 30"/>
            <p:cNvSpPr/>
            <p:nvPr/>
          </p:nvSpPr>
          <p:spPr>
            <a:xfrm>
              <a:off x="1835280" y="392904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2771640" y="41446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2"/>
            <p:cNvSpPr/>
            <p:nvPr/>
          </p:nvSpPr>
          <p:spPr>
            <a:xfrm>
              <a:off x="3922560" y="38559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478800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5580000" y="38559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637236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3132000" y="38559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34000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8"/>
            <p:cNvSpPr/>
            <p:nvPr/>
          </p:nvSpPr>
          <p:spPr>
            <a:xfrm>
              <a:off x="723600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1576440" y="397332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835280" y="3568680"/>
            <a:ext cx="1296720" cy="36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2421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2556000" y="349560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5506920" y="3868560"/>
            <a:ext cx="131760" cy="13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059280" y="3859200"/>
            <a:ext cx="141120" cy="141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3124080" y="3568320"/>
            <a:ext cx="9720" cy="291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1835280" y="3568680"/>
            <a:ext cx="129672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562720" y="3352320"/>
            <a:ext cx="19080" cy="507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H="1">
            <a:off x="1835280" y="3352680"/>
            <a:ext cx="37447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157480" y="6224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173320" y="113364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2097000" y="9050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1222560" y="9144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838080" y="2133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>
            <a:off x="1828800" y="3936960"/>
            <a:ext cx="1251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66880" y="548640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＜－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9144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的解集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4" descr="20051014210567908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5" descr="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46"/>
          <p:cNvSpPr txBox="1"/>
          <p:nvPr/>
        </p:nvSpPr>
        <p:spPr>
          <a:xfrm>
            <a:off x="5181480" y="9144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同小取小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dur="indefinite" nodeType="afterEffect" fill="remove" presetClass="entr" presetID="2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9"/>
          <p:cNvGrpSpPr/>
          <p:nvPr/>
        </p:nvGrpSpPr>
        <p:grpSpPr>
          <a:xfrm>
            <a:off x="1576440" y="4286160"/>
            <a:ext cx="6769080" cy="516240"/>
            <a:chOff x="1576440" y="4286160"/>
            <a:chExt cx="6769080" cy="516240"/>
          </a:xfrm>
        </p:grpSpPr>
        <p:sp>
          <p:nvSpPr>
            <p:cNvPr id="186" name="Line 6"/>
            <p:cNvSpPr/>
            <p:nvPr/>
          </p:nvSpPr>
          <p:spPr>
            <a:xfrm>
              <a:off x="1835280" y="435924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2771640" y="4574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3922560" y="42861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478800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"/>
            <p:cNvSpPr/>
            <p:nvPr/>
          </p:nvSpPr>
          <p:spPr>
            <a:xfrm>
              <a:off x="5580000" y="42861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>
              <a:off x="637236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3132000" y="42861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234000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723600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1576440" y="440352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132000" y="3782880"/>
            <a:ext cx="2448000" cy="576360"/>
          </a:xfrm>
          <a:prstGeom prst="rect">
            <a:avLst/>
          </a:prstGeom>
          <a:ln w="0">
            <a:noFill/>
          </a:ln>
        </p:spPr>
      </p:pic>
      <p:sp>
        <p:nvSpPr>
          <p:cNvPr id="197" name="Line 14"/>
          <p:cNvSpPr/>
          <p:nvPr/>
        </p:nvSpPr>
        <p:spPr>
          <a:xfrm>
            <a:off x="2556000" y="392580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5506920" y="4299120"/>
            <a:ext cx="131760" cy="13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059280" y="4289400"/>
            <a:ext cx="141120" cy="141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V="1">
            <a:off x="3124080" y="3782520"/>
            <a:ext cx="7920" cy="507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3132000" y="3782880"/>
            <a:ext cx="482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1"/>
          <p:cNvSpPr/>
          <p:nvPr/>
        </p:nvSpPr>
        <p:spPr>
          <a:xfrm flipV="1">
            <a:off x="5562720" y="3567240"/>
            <a:ext cx="17280" cy="723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 flipH="1">
            <a:off x="1835280" y="3567240"/>
            <a:ext cx="374472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2057400" y="609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1996920" y="892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1224000" y="901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2149560" y="1120680"/>
            <a:ext cx="28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914400" y="2209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3200400" y="436716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2666880" y="5638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990720" y="4952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的解集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4" descr="20051014210567908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5" descr="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214" name="WordArt 36"/>
          <p:cNvSpPr txBox="1"/>
          <p:nvPr/>
        </p:nvSpPr>
        <p:spPr>
          <a:xfrm>
            <a:off x="5181480" y="91440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小小大中间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remove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7"/>
          <p:cNvGrpSpPr/>
          <p:nvPr/>
        </p:nvGrpSpPr>
        <p:grpSpPr>
          <a:xfrm>
            <a:off x="1219320" y="3886200"/>
            <a:ext cx="6769080" cy="516240"/>
            <a:chOff x="1219320" y="3886200"/>
            <a:chExt cx="6769080" cy="516240"/>
          </a:xfrm>
        </p:grpSpPr>
        <p:sp>
          <p:nvSpPr>
            <p:cNvPr id="216" name="Line 28"/>
            <p:cNvSpPr/>
            <p:nvPr/>
          </p:nvSpPr>
          <p:spPr>
            <a:xfrm>
              <a:off x="1478160" y="395928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2414520" y="41749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65440" y="388620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1"/>
            <p:cNvSpPr/>
            <p:nvPr/>
          </p:nvSpPr>
          <p:spPr>
            <a:xfrm>
              <a:off x="443088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>
              <a:off x="5222880" y="388620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01524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4"/>
            <p:cNvSpPr/>
            <p:nvPr/>
          </p:nvSpPr>
          <p:spPr>
            <a:xfrm>
              <a:off x="2774880" y="388620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5"/>
            <p:cNvSpPr/>
            <p:nvPr/>
          </p:nvSpPr>
          <p:spPr>
            <a:xfrm>
              <a:off x="198288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87888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7"/>
            <p:cNvSpPr/>
            <p:nvPr/>
          </p:nvSpPr>
          <p:spPr>
            <a:xfrm>
              <a:off x="1219320" y="400356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6"/>
          <p:cNvSpPr/>
          <p:nvPr/>
        </p:nvSpPr>
        <p:spPr>
          <a:xfrm>
            <a:off x="2414520" y="417528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198520" y="3525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164200" y="3890880"/>
            <a:ext cx="135000" cy="13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5"/>
          <p:cNvSpPr/>
          <p:nvPr/>
        </p:nvSpPr>
        <p:spPr>
          <a:xfrm>
            <a:off x="2701800" y="3889440"/>
            <a:ext cx="141480" cy="141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2766960" y="3382560"/>
            <a:ext cx="7920" cy="507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 flipH="1">
            <a:off x="1477440" y="33829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H="1" flipV="1">
            <a:off x="5204880" y="3357720"/>
            <a:ext cx="17640" cy="528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5205240" y="335772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1881360" y="1166760"/>
            <a:ext cx="26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1828800" y="609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1768320" y="892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995400" y="901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838080" y="2163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838080" y="4572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无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4114800" y="4572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或解集是空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380880" y="5181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可见，这令不等式的解集没有公共部分，这时，我们说这个不等式组无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3" descr="200510142105679089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4" descr="7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45"/>
          <p:cNvSpPr txBox="1"/>
          <p:nvPr/>
        </p:nvSpPr>
        <p:spPr>
          <a:xfrm>
            <a:off x="4067280" y="620640"/>
            <a:ext cx="36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大小小没得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79"/>
          <p:cNvGrpSpPr/>
          <p:nvPr/>
        </p:nvGrpSpPr>
        <p:grpSpPr>
          <a:xfrm>
            <a:off x="2124000" y="4149720"/>
            <a:ext cx="3048120" cy="839520"/>
            <a:chOff x="2124000" y="4149720"/>
            <a:chExt cx="3048120" cy="839520"/>
          </a:xfrm>
        </p:grpSpPr>
        <p:grpSp>
          <p:nvGrpSpPr>
            <p:cNvPr id="246" name="Group 80"/>
            <p:cNvGrpSpPr/>
            <p:nvPr/>
          </p:nvGrpSpPr>
          <p:grpSpPr>
            <a:xfrm>
              <a:off x="2124000" y="4454640"/>
              <a:ext cx="3048120" cy="534600"/>
              <a:chOff x="2124000" y="4454640"/>
              <a:chExt cx="3048120" cy="534600"/>
            </a:xfrm>
          </p:grpSpPr>
          <p:sp>
            <p:nvSpPr>
              <p:cNvPr id="247" name="Line 81"/>
              <p:cNvSpPr/>
              <p:nvPr/>
            </p:nvSpPr>
            <p:spPr>
              <a:xfrm>
                <a:off x="2124000" y="449712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82"/>
              <p:cNvGrpSpPr/>
              <p:nvPr/>
            </p:nvGrpSpPr>
            <p:grpSpPr>
              <a:xfrm>
                <a:off x="2200320" y="4454640"/>
                <a:ext cx="1981080" cy="534600"/>
                <a:chOff x="2200320" y="4454640"/>
                <a:chExt cx="1981080" cy="534600"/>
              </a:xfrm>
            </p:grpSpPr>
            <p:sp>
              <p:nvSpPr>
                <p:cNvPr id="249" name="Text Box 83"/>
                <p:cNvSpPr/>
                <p:nvPr/>
              </p:nvSpPr>
              <p:spPr>
                <a:xfrm>
                  <a:off x="2200320" y="4468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84"/>
                <p:cNvSpPr/>
                <p:nvPr/>
              </p:nvSpPr>
              <p:spPr>
                <a:xfrm>
                  <a:off x="3648240" y="4454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Text Box 85"/>
              <p:cNvSpPr/>
              <p:nvPr/>
            </p:nvSpPr>
            <p:spPr>
              <a:xfrm>
                <a:off x="2657520" y="445464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6"/>
            <p:cNvGrpSpPr/>
            <p:nvPr/>
          </p:nvGrpSpPr>
          <p:grpSpPr>
            <a:xfrm>
              <a:off x="2847960" y="4149720"/>
              <a:ext cx="2161800" cy="349200"/>
              <a:chOff x="2847960" y="4149720"/>
              <a:chExt cx="2161800" cy="349200"/>
            </a:xfrm>
          </p:grpSpPr>
          <p:grpSp>
            <p:nvGrpSpPr>
              <p:cNvPr id="253" name="Group 87"/>
              <p:cNvGrpSpPr/>
              <p:nvPr/>
            </p:nvGrpSpPr>
            <p:grpSpPr>
              <a:xfrm>
                <a:off x="2847960" y="4149720"/>
                <a:ext cx="2133720" cy="304920"/>
                <a:chOff x="2847960" y="4149720"/>
                <a:chExt cx="2133720" cy="304920"/>
              </a:xfrm>
            </p:grpSpPr>
            <p:sp>
              <p:nvSpPr>
                <p:cNvPr id="254" name="Line 88"/>
                <p:cNvSpPr/>
                <p:nvPr/>
              </p:nvSpPr>
              <p:spPr>
                <a:xfrm>
                  <a:off x="2847960" y="4149720"/>
                  <a:ext cx="0" cy="30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89"/>
                <p:cNvSpPr/>
                <p:nvPr/>
              </p:nvSpPr>
              <p:spPr>
                <a:xfrm>
                  <a:off x="2847960" y="4149720"/>
                  <a:ext cx="2133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90"/>
              <p:cNvSpPr/>
              <p:nvPr/>
            </p:nvSpPr>
            <p:spPr>
              <a:xfrm flipH="1">
                <a:off x="2866680" y="4489560"/>
                <a:ext cx="214308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91"/>
            <p:cNvGrpSpPr/>
            <p:nvPr/>
          </p:nvGrpSpPr>
          <p:grpSpPr>
            <a:xfrm>
              <a:off x="2809800" y="4454640"/>
              <a:ext cx="1219320" cy="85680"/>
              <a:chOff x="2809800" y="4454640"/>
              <a:chExt cx="1219320" cy="85680"/>
            </a:xfrm>
          </p:grpSpPr>
          <p:sp>
            <p:nvSpPr>
              <p:cNvPr id="258" name="Oval 92"/>
              <p:cNvSpPr/>
              <p:nvPr/>
            </p:nvSpPr>
            <p:spPr>
              <a:xfrm>
                <a:off x="2809800" y="4464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93"/>
              <p:cNvSpPr/>
              <p:nvPr/>
            </p:nvSpPr>
            <p:spPr>
              <a:xfrm>
                <a:off x="3952800" y="44546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4"/>
            <p:cNvGrpSpPr/>
            <p:nvPr/>
          </p:nvGrpSpPr>
          <p:grpSpPr>
            <a:xfrm>
              <a:off x="2162520" y="4235040"/>
              <a:ext cx="1828440" cy="219240"/>
              <a:chOff x="2162520" y="4235040"/>
              <a:chExt cx="1828440" cy="219240"/>
            </a:xfrm>
          </p:grpSpPr>
          <p:sp>
            <p:nvSpPr>
              <p:cNvPr id="261" name="Line 95"/>
              <p:cNvSpPr/>
              <p:nvPr/>
            </p:nvSpPr>
            <p:spPr>
              <a:xfrm flipV="1">
                <a:off x="3990960" y="4235040"/>
                <a:ext cx="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96"/>
              <p:cNvSpPr/>
              <p:nvPr/>
            </p:nvSpPr>
            <p:spPr>
              <a:xfrm flipH="1">
                <a:off x="2162520" y="4235400"/>
                <a:ext cx="182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65"/>
          <p:cNvGrpSpPr/>
          <p:nvPr/>
        </p:nvGrpSpPr>
        <p:grpSpPr>
          <a:xfrm>
            <a:off x="2123640" y="5084280"/>
            <a:ext cx="3048480" cy="682920"/>
            <a:chOff x="2123640" y="5084280"/>
            <a:chExt cx="3048480" cy="682920"/>
          </a:xfrm>
        </p:grpSpPr>
        <p:grpSp>
          <p:nvGrpSpPr>
            <p:cNvPr id="264" name="Group 164"/>
            <p:cNvGrpSpPr/>
            <p:nvPr/>
          </p:nvGrpSpPr>
          <p:grpSpPr>
            <a:xfrm>
              <a:off x="2123640" y="5084280"/>
              <a:ext cx="3048480" cy="682920"/>
              <a:chOff x="2123640" y="5084280"/>
              <a:chExt cx="3048480" cy="682920"/>
            </a:xfrm>
          </p:grpSpPr>
          <p:grpSp>
            <p:nvGrpSpPr>
              <p:cNvPr id="265" name="Group 163"/>
              <p:cNvGrpSpPr/>
              <p:nvPr/>
            </p:nvGrpSpPr>
            <p:grpSpPr>
              <a:xfrm>
                <a:off x="2123640" y="5084280"/>
                <a:ext cx="3048480" cy="682920"/>
                <a:chOff x="2123640" y="5084280"/>
                <a:chExt cx="3048480" cy="682920"/>
              </a:xfrm>
            </p:grpSpPr>
            <p:grpSp>
              <p:nvGrpSpPr>
                <p:cNvPr id="266" name="Group 142"/>
                <p:cNvGrpSpPr/>
                <p:nvPr/>
              </p:nvGrpSpPr>
              <p:grpSpPr>
                <a:xfrm>
                  <a:off x="2124000" y="5227560"/>
                  <a:ext cx="3048120" cy="539640"/>
                  <a:chOff x="2124000" y="5227560"/>
                  <a:chExt cx="3048120" cy="539640"/>
                </a:xfrm>
              </p:grpSpPr>
              <p:sp>
                <p:nvSpPr>
                  <p:cNvPr id="267" name="Line 143"/>
                  <p:cNvSpPr/>
                  <p:nvPr/>
                </p:nvSpPr>
                <p:spPr>
                  <a:xfrm>
                    <a:off x="2124000" y="5308560"/>
                    <a:ext cx="3048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8" name="Group 144"/>
                  <p:cNvGrpSpPr/>
                  <p:nvPr/>
                </p:nvGrpSpPr>
                <p:grpSpPr>
                  <a:xfrm>
                    <a:off x="2200320" y="5232240"/>
                    <a:ext cx="1981080" cy="534960"/>
                    <a:chOff x="2200320" y="5232240"/>
                    <a:chExt cx="1981080" cy="534960"/>
                  </a:xfrm>
                </p:grpSpPr>
                <p:sp>
                  <p:nvSpPr>
                    <p:cNvPr id="269" name="Text Box 145"/>
                    <p:cNvSpPr/>
                    <p:nvPr/>
                  </p:nvSpPr>
                  <p:spPr>
                    <a:xfrm>
                      <a:off x="2200320" y="524664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Text Box 146"/>
                    <p:cNvSpPr/>
                    <p:nvPr/>
                  </p:nvSpPr>
                  <p:spPr>
                    <a:xfrm>
                      <a:off x="3648240" y="5232240"/>
                      <a:ext cx="5331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1" name="Text Box 147"/>
                  <p:cNvSpPr/>
                  <p:nvPr/>
                </p:nvSpPr>
                <p:spPr>
                  <a:xfrm>
                    <a:off x="2644560" y="5227560"/>
                    <a:ext cx="83844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148"/>
                <p:cNvGrpSpPr/>
                <p:nvPr/>
              </p:nvGrpSpPr>
              <p:grpSpPr>
                <a:xfrm>
                  <a:off x="2123640" y="5116320"/>
                  <a:ext cx="733320" cy="228600"/>
                  <a:chOff x="2123640" y="5116320"/>
                  <a:chExt cx="733320" cy="228600"/>
                </a:xfrm>
              </p:grpSpPr>
              <p:grpSp>
                <p:nvGrpSpPr>
                  <p:cNvPr id="273" name="Group 149"/>
                  <p:cNvGrpSpPr/>
                  <p:nvPr/>
                </p:nvGrpSpPr>
                <p:grpSpPr>
                  <a:xfrm>
                    <a:off x="2123640" y="5116320"/>
                    <a:ext cx="733320" cy="209520"/>
                    <a:chOff x="2123640" y="5116320"/>
                    <a:chExt cx="733320" cy="209520"/>
                  </a:xfrm>
                </p:grpSpPr>
                <p:sp>
                  <p:nvSpPr>
                    <p:cNvPr id="274" name="Line 150"/>
                    <p:cNvSpPr/>
                    <p:nvPr/>
                  </p:nvSpPr>
                  <p:spPr>
                    <a:xfrm>
                      <a:off x="2856960" y="5116320"/>
                      <a:ext cx="0" cy="209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51"/>
                    <p:cNvSpPr/>
                    <p:nvPr/>
                  </p:nvSpPr>
                  <p:spPr>
                    <a:xfrm flipH="1">
                      <a:off x="2123640" y="5116320"/>
                      <a:ext cx="7333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Line 152"/>
                  <p:cNvSpPr/>
                  <p:nvPr/>
                </p:nvSpPr>
                <p:spPr>
                  <a:xfrm flipH="1">
                    <a:off x="2136600" y="5344920"/>
                    <a:ext cx="69552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155"/>
                <p:cNvSpPr/>
                <p:nvPr/>
              </p:nvSpPr>
              <p:spPr>
                <a:xfrm flipV="1">
                  <a:off x="3995640" y="5084280"/>
                  <a:ext cx="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Line 156"/>
              <p:cNvSpPr/>
              <p:nvPr/>
            </p:nvSpPr>
            <p:spPr>
              <a:xfrm>
                <a:off x="3995640" y="5084640"/>
                <a:ext cx="10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58"/>
            <p:cNvGrpSpPr/>
            <p:nvPr/>
          </p:nvGrpSpPr>
          <p:grpSpPr>
            <a:xfrm>
              <a:off x="2822400" y="5307120"/>
              <a:ext cx="1219320" cy="75960"/>
              <a:chOff x="2822400" y="5307120"/>
              <a:chExt cx="1219320" cy="75960"/>
            </a:xfrm>
          </p:grpSpPr>
          <p:sp>
            <p:nvSpPr>
              <p:cNvPr id="280" name="Oval 159"/>
              <p:cNvSpPr/>
              <p:nvPr/>
            </p:nvSpPr>
            <p:spPr>
              <a:xfrm>
                <a:off x="2822400" y="53071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60"/>
              <p:cNvSpPr/>
              <p:nvPr/>
            </p:nvSpPr>
            <p:spPr>
              <a:xfrm>
                <a:off x="3965400" y="53071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324000" y="1341360"/>
          <a:ext cx="8712000" cy="4595760"/>
        </p:xfrm>
        <a:graphic>
          <a:graphicData uri="http://schemas.openxmlformats.org/drawingml/2006/table">
            <a:tbl>
              <a:tblPr/>
              <a:tblGrid>
                <a:gridCol w="1584000"/>
                <a:gridCol w="3311640"/>
                <a:gridCol w="381636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数轴上表示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等式组的解集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规律口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3" name="Group 29"/>
          <p:cNvGrpSpPr/>
          <p:nvPr/>
        </p:nvGrpSpPr>
        <p:grpSpPr>
          <a:xfrm>
            <a:off x="539640" y="1916280"/>
            <a:ext cx="2124000" cy="1015920"/>
            <a:chOff x="539640" y="1916280"/>
            <a:chExt cx="2124000" cy="1015920"/>
          </a:xfrm>
        </p:grpSpPr>
        <p:sp>
          <p:nvSpPr>
            <p:cNvPr id="284" name="Text Box 30"/>
            <p:cNvSpPr/>
            <p:nvPr/>
          </p:nvSpPr>
          <p:spPr>
            <a:xfrm>
              <a:off x="718920" y="191628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31"/>
            <p:cNvSpPr/>
            <p:nvPr/>
          </p:nvSpPr>
          <p:spPr>
            <a:xfrm>
              <a:off x="539640" y="205920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39640" y="2997360"/>
            <a:ext cx="2124000" cy="1015920"/>
            <a:chOff x="539640" y="2997360"/>
            <a:chExt cx="2124000" cy="1015920"/>
          </a:xfrm>
        </p:grpSpPr>
        <p:sp>
          <p:nvSpPr>
            <p:cNvPr id="287" name="Text Box 33"/>
            <p:cNvSpPr/>
            <p:nvPr/>
          </p:nvSpPr>
          <p:spPr>
            <a:xfrm>
              <a:off x="718920" y="29973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34"/>
            <p:cNvSpPr/>
            <p:nvPr/>
          </p:nvSpPr>
          <p:spPr>
            <a:xfrm>
              <a:off x="539640" y="31402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5"/>
          <p:cNvGrpSpPr/>
          <p:nvPr/>
        </p:nvGrpSpPr>
        <p:grpSpPr>
          <a:xfrm>
            <a:off x="539640" y="4005360"/>
            <a:ext cx="2124000" cy="1015920"/>
            <a:chOff x="539640" y="4005360"/>
            <a:chExt cx="2124000" cy="1015920"/>
          </a:xfrm>
        </p:grpSpPr>
        <p:sp>
          <p:nvSpPr>
            <p:cNvPr id="290" name="Text Box 36"/>
            <p:cNvSpPr/>
            <p:nvPr/>
          </p:nvSpPr>
          <p:spPr>
            <a:xfrm>
              <a:off x="718920" y="40053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37"/>
            <p:cNvSpPr/>
            <p:nvPr/>
          </p:nvSpPr>
          <p:spPr>
            <a:xfrm>
              <a:off x="539640" y="41482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8"/>
          <p:cNvGrpSpPr/>
          <p:nvPr/>
        </p:nvGrpSpPr>
        <p:grpSpPr>
          <a:xfrm>
            <a:off x="539640" y="5013360"/>
            <a:ext cx="2124000" cy="1015920"/>
            <a:chOff x="539640" y="5013360"/>
            <a:chExt cx="2124000" cy="1015920"/>
          </a:xfrm>
        </p:grpSpPr>
        <p:sp>
          <p:nvSpPr>
            <p:cNvPr id="293" name="Text Box 39"/>
            <p:cNvSpPr/>
            <p:nvPr/>
          </p:nvSpPr>
          <p:spPr>
            <a:xfrm>
              <a:off x="718920" y="50133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40"/>
            <p:cNvSpPr/>
            <p:nvPr/>
          </p:nvSpPr>
          <p:spPr>
            <a:xfrm>
              <a:off x="539640" y="51562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2195640" y="1989000"/>
            <a:ext cx="3047760" cy="763560"/>
            <a:chOff x="2195640" y="1989000"/>
            <a:chExt cx="3047760" cy="763560"/>
          </a:xfrm>
        </p:grpSpPr>
        <p:grpSp>
          <p:nvGrpSpPr>
            <p:cNvPr id="296" name="Group 42"/>
            <p:cNvGrpSpPr/>
            <p:nvPr/>
          </p:nvGrpSpPr>
          <p:grpSpPr>
            <a:xfrm>
              <a:off x="2195640" y="2217600"/>
              <a:ext cx="3047760" cy="534960"/>
              <a:chOff x="2195640" y="2217600"/>
              <a:chExt cx="3047760" cy="534960"/>
            </a:xfrm>
          </p:grpSpPr>
          <p:sp>
            <p:nvSpPr>
              <p:cNvPr id="297" name="Text Box 43"/>
              <p:cNvSpPr/>
              <p:nvPr/>
            </p:nvSpPr>
            <p:spPr>
              <a:xfrm>
                <a:off x="2271600" y="2232000"/>
                <a:ext cx="83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44"/>
              <p:cNvSpPr/>
              <p:nvPr/>
            </p:nvSpPr>
            <p:spPr>
              <a:xfrm>
                <a:off x="3719160" y="2217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5"/>
              <p:cNvSpPr/>
              <p:nvPr/>
            </p:nvSpPr>
            <p:spPr>
              <a:xfrm>
                <a:off x="2195640" y="22939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6"/>
              <p:cNvSpPr/>
              <p:nvPr/>
            </p:nvSpPr>
            <p:spPr>
              <a:xfrm>
                <a:off x="2728800" y="2232000"/>
                <a:ext cx="83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7"/>
            <p:cNvGrpSpPr/>
            <p:nvPr/>
          </p:nvGrpSpPr>
          <p:grpSpPr>
            <a:xfrm>
              <a:off x="3000240" y="1989000"/>
              <a:ext cx="2133000" cy="304920"/>
              <a:chOff x="3000240" y="1989000"/>
              <a:chExt cx="2133000" cy="304920"/>
            </a:xfrm>
          </p:grpSpPr>
          <p:sp>
            <p:nvSpPr>
              <p:cNvPr id="302" name="Line 48"/>
              <p:cNvSpPr/>
              <p:nvPr/>
            </p:nvSpPr>
            <p:spPr>
              <a:xfrm>
                <a:off x="3000240" y="19890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9"/>
              <p:cNvSpPr/>
              <p:nvPr/>
            </p:nvSpPr>
            <p:spPr>
              <a:xfrm>
                <a:off x="3000240" y="1989000"/>
                <a:ext cx="213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50"/>
            <p:cNvGrpSpPr/>
            <p:nvPr/>
          </p:nvGrpSpPr>
          <p:grpSpPr>
            <a:xfrm>
              <a:off x="4143240" y="2065320"/>
              <a:ext cx="980280" cy="218880"/>
              <a:chOff x="4143240" y="2065320"/>
              <a:chExt cx="980280" cy="218880"/>
            </a:xfrm>
          </p:grpSpPr>
          <p:sp>
            <p:nvSpPr>
              <p:cNvPr id="305" name="Line 51"/>
              <p:cNvSpPr/>
              <p:nvPr/>
            </p:nvSpPr>
            <p:spPr>
              <a:xfrm flipV="1">
                <a:off x="4143240" y="2065320"/>
                <a:ext cx="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52"/>
              <p:cNvSpPr/>
              <p:nvPr/>
            </p:nvSpPr>
            <p:spPr>
              <a:xfrm>
                <a:off x="4143240" y="2065320"/>
                <a:ext cx="98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53"/>
            <p:cNvGrpSpPr/>
            <p:nvPr/>
          </p:nvGrpSpPr>
          <p:grpSpPr>
            <a:xfrm>
              <a:off x="2952360" y="2255760"/>
              <a:ext cx="1228680" cy="76320"/>
              <a:chOff x="2952360" y="2255760"/>
              <a:chExt cx="1228680" cy="76320"/>
            </a:xfrm>
          </p:grpSpPr>
          <p:sp>
            <p:nvSpPr>
              <p:cNvPr id="308" name="Oval 54"/>
              <p:cNvSpPr/>
              <p:nvPr/>
            </p:nvSpPr>
            <p:spPr>
              <a:xfrm>
                <a:off x="2952360" y="22557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55"/>
              <p:cNvSpPr/>
              <p:nvPr/>
            </p:nvSpPr>
            <p:spPr>
              <a:xfrm>
                <a:off x="4104720" y="22557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Line 56"/>
          <p:cNvSpPr/>
          <p:nvPr/>
        </p:nvSpPr>
        <p:spPr>
          <a:xfrm>
            <a:off x="4140360" y="227664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7"/>
          <p:cNvGrpSpPr/>
          <p:nvPr/>
        </p:nvGrpSpPr>
        <p:grpSpPr>
          <a:xfrm>
            <a:off x="2123640" y="3213000"/>
            <a:ext cx="3072240" cy="858600"/>
            <a:chOff x="2123640" y="3213000"/>
            <a:chExt cx="3072240" cy="858600"/>
          </a:xfrm>
        </p:grpSpPr>
        <p:grpSp>
          <p:nvGrpSpPr>
            <p:cNvPr id="312" name="Group 58"/>
            <p:cNvGrpSpPr/>
            <p:nvPr/>
          </p:nvGrpSpPr>
          <p:grpSpPr>
            <a:xfrm>
              <a:off x="2147760" y="3537000"/>
              <a:ext cx="3048120" cy="534600"/>
              <a:chOff x="2147760" y="3537000"/>
              <a:chExt cx="3048120" cy="534600"/>
            </a:xfrm>
          </p:grpSpPr>
          <p:sp>
            <p:nvSpPr>
              <p:cNvPr id="313" name="Text Box 59"/>
              <p:cNvSpPr/>
              <p:nvPr/>
            </p:nvSpPr>
            <p:spPr>
              <a:xfrm>
                <a:off x="2528640" y="355104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60"/>
              <p:cNvSpPr/>
              <p:nvPr/>
            </p:nvSpPr>
            <p:spPr>
              <a:xfrm>
                <a:off x="3900240" y="35370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61"/>
              <p:cNvSpPr/>
              <p:nvPr/>
            </p:nvSpPr>
            <p:spPr>
              <a:xfrm>
                <a:off x="2147760" y="353700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62"/>
              <p:cNvSpPr/>
              <p:nvPr/>
            </p:nvSpPr>
            <p:spPr>
              <a:xfrm>
                <a:off x="2909880" y="355104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63"/>
            <p:cNvGrpSpPr/>
            <p:nvPr/>
          </p:nvGrpSpPr>
          <p:grpSpPr>
            <a:xfrm>
              <a:off x="2123640" y="3213000"/>
              <a:ext cx="2134080" cy="376200"/>
              <a:chOff x="2123640" y="3213000"/>
              <a:chExt cx="2134080" cy="376200"/>
            </a:xfrm>
          </p:grpSpPr>
          <p:grpSp>
            <p:nvGrpSpPr>
              <p:cNvPr id="318" name="Group 64"/>
              <p:cNvGrpSpPr/>
              <p:nvPr/>
            </p:nvGrpSpPr>
            <p:grpSpPr>
              <a:xfrm>
                <a:off x="2123640" y="3213000"/>
                <a:ext cx="2095920" cy="324000"/>
                <a:chOff x="2123640" y="3213000"/>
                <a:chExt cx="2095920" cy="324000"/>
              </a:xfrm>
            </p:grpSpPr>
            <p:grpSp>
              <p:nvGrpSpPr>
                <p:cNvPr id="319" name="Group 65"/>
                <p:cNvGrpSpPr/>
                <p:nvPr/>
              </p:nvGrpSpPr>
              <p:grpSpPr>
                <a:xfrm>
                  <a:off x="2152440" y="3213000"/>
                  <a:ext cx="2067120" cy="304920"/>
                  <a:chOff x="2152440" y="3213000"/>
                  <a:chExt cx="2067120" cy="304920"/>
                </a:xfrm>
              </p:grpSpPr>
              <p:sp>
                <p:nvSpPr>
                  <p:cNvPr id="320" name="Line 66"/>
                  <p:cNvSpPr/>
                  <p:nvPr/>
                </p:nvSpPr>
                <p:spPr>
                  <a:xfrm>
                    <a:off x="4219560" y="321300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67"/>
                  <p:cNvSpPr/>
                  <p:nvPr/>
                </p:nvSpPr>
                <p:spPr>
                  <a:xfrm flipH="1">
                    <a:off x="2152440" y="3213000"/>
                    <a:ext cx="2067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68"/>
                <p:cNvSpPr/>
                <p:nvPr/>
              </p:nvSpPr>
              <p:spPr>
                <a:xfrm flipH="1">
                  <a:off x="2123640" y="3537000"/>
                  <a:ext cx="205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69"/>
              <p:cNvGrpSpPr/>
              <p:nvPr/>
            </p:nvGrpSpPr>
            <p:grpSpPr>
              <a:xfrm>
                <a:off x="2147760" y="3277800"/>
                <a:ext cx="990720" cy="238320"/>
                <a:chOff x="2147760" y="3277800"/>
                <a:chExt cx="990720" cy="238320"/>
              </a:xfrm>
            </p:grpSpPr>
            <p:grpSp>
              <p:nvGrpSpPr>
                <p:cNvPr id="324" name="Group 70"/>
                <p:cNvGrpSpPr/>
                <p:nvPr/>
              </p:nvGrpSpPr>
              <p:grpSpPr>
                <a:xfrm>
                  <a:off x="2186280" y="3277800"/>
                  <a:ext cx="923400" cy="219240"/>
                  <a:chOff x="2186280" y="3277800"/>
                  <a:chExt cx="923400" cy="219240"/>
                </a:xfrm>
              </p:grpSpPr>
              <p:sp>
                <p:nvSpPr>
                  <p:cNvPr id="325" name="Line 71"/>
                  <p:cNvSpPr/>
                  <p:nvPr/>
                </p:nvSpPr>
                <p:spPr>
                  <a:xfrm flipV="1">
                    <a:off x="3109680" y="3277800"/>
                    <a:ext cx="0" cy="219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72"/>
                  <p:cNvSpPr/>
                  <p:nvPr/>
                </p:nvSpPr>
                <p:spPr>
                  <a:xfrm flipH="1">
                    <a:off x="2186280" y="3278160"/>
                    <a:ext cx="923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Line 73"/>
                <p:cNvSpPr/>
                <p:nvPr/>
              </p:nvSpPr>
              <p:spPr>
                <a:xfrm>
                  <a:off x="2147760" y="3516120"/>
                  <a:ext cx="99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74"/>
              <p:cNvGrpSpPr/>
              <p:nvPr/>
            </p:nvGrpSpPr>
            <p:grpSpPr>
              <a:xfrm>
                <a:off x="3038400" y="3512880"/>
                <a:ext cx="1219320" cy="76320"/>
                <a:chOff x="3038400" y="3512880"/>
                <a:chExt cx="1219320" cy="76320"/>
              </a:xfrm>
            </p:grpSpPr>
            <p:sp>
              <p:nvSpPr>
                <p:cNvPr id="329" name="Oval 75"/>
                <p:cNvSpPr/>
                <p:nvPr/>
              </p:nvSpPr>
              <p:spPr>
                <a:xfrm>
                  <a:off x="3038400" y="3512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76"/>
                <p:cNvSpPr/>
                <p:nvPr/>
              </p:nvSpPr>
              <p:spPr>
                <a:xfrm>
                  <a:off x="4181400" y="3512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1" name="Line 77"/>
          <p:cNvSpPr/>
          <p:nvPr/>
        </p:nvSpPr>
        <p:spPr>
          <a:xfrm flipH="1">
            <a:off x="2124000" y="3500280"/>
            <a:ext cx="93528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8"/>
          <p:cNvSpPr/>
          <p:nvPr/>
        </p:nvSpPr>
        <p:spPr>
          <a:xfrm>
            <a:off x="2843280" y="4508640"/>
            <a:ext cx="11397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7"/>
          <p:cNvSpPr/>
          <p:nvPr/>
        </p:nvSpPr>
        <p:spPr>
          <a:xfrm>
            <a:off x="5364000" y="21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Ｘ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8"/>
          <p:cNvSpPr/>
          <p:nvPr/>
        </p:nvSpPr>
        <p:spPr>
          <a:xfrm>
            <a:off x="5435640" y="3141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9"/>
          <p:cNvSpPr/>
          <p:nvPr/>
        </p:nvSpPr>
        <p:spPr>
          <a:xfrm>
            <a:off x="5776560" y="522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20"/>
          <p:cNvSpPr/>
          <p:nvPr/>
        </p:nvSpPr>
        <p:spPr>
          <a:xfrm>
            <a:off x="521964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ａ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1"/>
          <p:cNvSpPr/>
          <p:nvPr/>
        </p:nvSpPr>
        <p:spPr>
          <a:xfrm>
            <a:off x="6696000" y="422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小小大中间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2"/>
          <p:cNvSpPr/>
          <p:nvPr/>
        </p:nvSpPr>
        <p:spPr>
          <a:xfrm>
            <a:off x="6659640" y="52293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大小小找不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3"/>
          <p:cNvSpPr/>
          <p:nvPr/>
        </p:nvSpPr>
        <p:spPr>
          <a:xfrm>
            <a:off x="680400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小取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4"/>
          <p:cNvSpPr/>
          <p:nvPr/>
        </p:nvSpPr>
        <p:spPr>
          <a:xfrm>
            <a:off x="6804000" y="2133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大取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6"/>
          <p:cNvSpPr/>
          <p:nvPr/>
        </p:nvSpPr>
        <p:spPr>
          <a:xfrm>
            <a:off x="34920" y="435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探究活动：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0"/>
          <p:cNvSpPr/>
          <p:nvPr/>
        </p:nvSpPr>
        <p:spPr>
          <a:xfrm>
            <a:off x="0" y="0"/>
            <a:ext cx="8748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一元一次不等式组的解集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11788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练一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971640" y="765000"/>
            <a:ext cx="807696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选择题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下列不等式组的解集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抢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7848720" y="22096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"/>
          <p:cNvGrpSpPr/>
          <p:nvPr/>
        </p:nvGrpSpPr>
        <p:grpSpPr>
          <a:xfrm>
            <a:off x="1143000" y="1600200"/>
            <a:ext cx="7620120" cy="932400"/>
            <a:chOff x="1143000" y="1600200"/>
            <a:chExt cx="7620120" cy="932400"/>
          </a:xfrm>
        </p:grpSpPr>
        <p:sp>
          <p:nvSpPr>
            <p:cNvPr id="347" name="AutoShape 6"/>
            <p:cNvSpPr/>
            <p:nvPr/>
          </p:nvSpPr>
          <p:spPr>
            <a:xfrm>
              <a:off x="1676520" y="18288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7"/>
            <p:cNvGrpSpPr/>
            <p:nvPr/>
          </p:nvGrpSpPr>
          <p:grpSpPr>
            <a:xfrm>
              <a:off x="1143000" y="1600200"/>
              <a:ext cx="7620120" cy="932400"/>
              <a:chOff x="1143000" y="1600200"/>
              <a:chExt cx="7620120" cy="932400"/>
            </a:xfrm>
          </p:grpSpPr>
          <p:sp>
            <p:nvSpPr>
              <p:cNvPr id="349" name="Text Box 8"/>
              <p:cNvSpPr/>
              <p:nvPr/>
            </p:nvSpPr>
            <p:spPr>
              <a:xfrm>
                <a:off x="1143000" y="1905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1752480" y="16002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1752480" y="213372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4572000" y="21337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"/>
              <p:cNvSpPr/>
              <p:nvPr/>
            </p:nvSpPr>
            <p:spPr>
              <a:xfrm>
                <a:off x="3152160" y="2057400"/>
                <a:ext cx="88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3"/>
              <p:cNvSpPr/>
              <p:nvPr/>
            </p:nvSpPr>
            <p:spPr>
              <a:xfrm>
                <a:off x="5791320" y="213372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-1≤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≤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4"/>
              <p:cNvSpPr/>
              <p:nvPr/>
            </p:nvSpPr>
            <p:spPr>
              <a:xfrm>
                <a:off x="7620120" y="2133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无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5">
                <a:hlinkClick r:id="rId1"/>
              </p:cNvPr>
              <p:cNvSpPr/>
              <p:nvPr/>
            </p:nvSpPr>
            <p:spPr>
              <a:xfrm>
                <a:off x="342900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6">
                <a:hlinkClick r:id="rId2"/>
              </p:cNvPr>
              <p:cNvSpPr/>
              <p:nvPr/>
            </p:nvSpPr>
            <p:spPr>
              <a:xfrm>
                <a:off x="647712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7">
                <a:hlinkClick r:id="rId3"/>
              </p:cNvPr>
              <p:cNvSpPr/>
              <p:nvPr/>
            </p:nvSpPr>
            <p:spPr>
              <a:xfrm>
                <a:off x="800100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8">
                <a:hlinkClick r:id="rId4"/>
              </p:cNvPr>
              <p:cNvSpPr/>
              <p:nvPr/>
            </p:nvSpPr>
            <p:spPr>
              <a:xfrm>
                <a:off x="487692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Group 19"/>
          <p:cNvGrpSpPr/>
          <p:nvPr/>
        </p:nvGrpSpPr>
        <p:grpSpPr>
          <a:xfrm>
            <a:off x="1240560" y="2590920"/>
            <a:ext cx="7225920" cy="856080"/>
            <a:chOff x="1240560" y="2590920"/>
            <a:chExt cx="7225920" cy="856080"/>
          </a:xfrm>
        </p:grpSpPr>
        <p:sp>
          <p:nvSpPr>
            <p:cNvPr id="361" name="Rectangle 20"/>
            <p:cNvSpPr/>
            <p:nvPr/>
          </p:nvSpPr>
          <p:spPr>
            <a:xfrm>
              <a:off x="1240560" y="28958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1"/>
            <p:cNvSpPr/>
            <p:nvPr/>
          </p:nvSpPr>
          <p:spPr>
            <a:xfrm>
              <a:off x="1676520" y="2743200"/>
              <a:ext cx="152280" cy="6098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7989"/>
                  </a:lnTo>
                  <a:cubicBezTo>
                    <a:pt x="10800" y="8889"/>
                    <a:pt x="5400" y="9788"/>
                    <a:pt x="0" y="9788"/>
                  </a:cubicBezTo>
                  <a:cubicBezTo>
                    <a:pt x="5400" y="9788"/>
                    <a:pt x="10800" y="10688"/>
                    <a:pt x="10800" y="11587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2"/>
            <p:cNvSpPr/>
            <p:nvPr/>
          </p:nvSpPr>
          <p:spPr>
            <a:xfrm>
              <a:off x="1880640" y="259092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3"/>
            <p:cNvSpPr/>
            <p:nvPr/>
          </p:nvSpPr>
          <p:spPr>
            <a:xfrm>
              <a:off x="1881000" y="3048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"/>
            <p:cNvSpPr/>
            <p:nvPr/>
          </p:nvSpPr>
          <p:spPr>
            <a:xfrm>
              <a:off x="4624200" y="3048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5"/>
            <p:cNvSpPr/>
            <p:nvPr/>
          </p:nvSpPr>
          <p:spPr>
            <a:xfrm>
              <a:off x="3175920" y="304812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6"/>
            <p:cNvSpPr/>
            <p:nvPr/>
          </p:nvSpPr>
          <p:spPr>
            <a:xfrm>
              <a:off x="5867640" y="30481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801144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">
              <a:hlinkClick r:id="rId5"/>
            </p:cNvPr>
            <p:cNvSpPr/>
            <p:nvPr/>
          </p:nvSpPr>
          <p:spPr>
            <a:xfrm>
              <a:off x="4876920" y="25909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9">
              <a:hlinkClick r:id="rId6"/>
            </p:cNvPr>
            <p:cNvSpPr/>
            <p:nvPr/>
          </p:nvSpPr>
          <p:spPr>
            <a:xfrm>
              <a:off x="8001000" y="2590920"/>
              <a:ext cx="38124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0">
              <a:hlinkClick r:id="rId7"/>
            </p:cNvPr>
            <p:cNvSpPr/>
            <p:nvPr/>
          </p:nvSpPr>
          <p:spPr>
            <a:xfrm>
              <a:off x="6553440" y="25909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1">
              <a:hlinkClick r:id="rId8"/>
            </p:cNvPr>
            <p:cNvSpPr/>
            <p:nvPr/>
          </p:nvSpPr>
          <p:spPr>
            <a:xfrm>
              <a:off x="3505320" y="25909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32">
            <a:hlinkClick r:id="rId9"/>
          </p:cNvPr>
          <p:cNvSpPr/>
          <p:nvPr/>
        </p:nvSpPr>
        <p:spPr>
          <a:xfrm>
            <a:off x="3505320" y="2590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3"/>
          <p:cNvGrpSpPr/>
          <p:nvPr/>
        </p:nvGrpSpPr>
        <p:grpSpPr>
          <a:xfrm>
            <a:off x="1238760" y="3581280"/>
            <a:ext cx="7227720" cy="1008360"/>
            <a:chOff x="1238760" y="3581280"/>
            <a:chExt cx="7227720" cy="1008360"/>
          </a:xfrm>
        </p:grpSpPr>
        <p:sp>
          <p:nvSpPr>
            <p:cNvPr id="375" name="Rectangle 34"/>
            <p:cNvSpPr/>
            <p:nvPr/>
          </p:nvSpPr>
          <p:spPr>
            <a:xfrm>
              <a:off x="8011440" y="403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5"/>
            <p:cNvSpPr/>
            <p:nvPr/>
          </p:nvSpPr>
          <p:spPr>
            <a:xfrm>
              <a:off x="1238760" y="38862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36"/>
            <p:cNvSpPr/>
            <p:nvPr/>
          </p:nvSpPr>
          <p:spPr>
            <a:xfrm>
              <a:off x="1676160" y="3809880"/>
              <a:ext cx="152640" cy="609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7989"/>
                  </a:lnTo>
                  <a:cubicBezTo>
                    <a:pt x="10800" y="8889"/>
                    <a:pt x="5400" y="9788"/>
                    <a:pt x="0" y="9788"/>
                  </a:cubicBezTo>
                  <a:cubicBezTo>
                    <a:pt x="5400" y="9788"/>
                    <a:pt x="10800" y="10688"/>
                    <a:pt x="10800" y="11587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7"/>
            <p:cNvSpPr/>
            <p:nvPr/>
          </p:nvSpPr>
          <p:spPr>
            <a:xfrm>
              <a:off x="1827720" y="36576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8"/>
            <p:cNvSpPr/>
            <p:nvPr/>
          </p:nvSpPr>
          <p:spPr>
            <a:xfrm>
              <a:off x="3275640" y="41148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9"/>
            <p:cNvSpPr/>
            <p:nvPr/>
          </p:nvSpPr>
          <p:spPr>
            <a:xfrm>
              <a:off x="1803960" y="41907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0"/>
            <p:cNvSpPr/>
            <p:nvPr/>
          </p:nvSpPr>
          <p:spPr>
            <a:xfrm>
              <a:off x="4699440" y="41148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1"/>
            <p:cNvSpPr/>
            <p:nvPr/>
          </p:nvSpPr>
          <p:spPr>
            <a:xfrm>
              <a:off x="5943600" y="411480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-1≤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x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2">
              <a:hlinkClick r:id="rId10"/>
            </p:cNvPr>
            <p:cNvSpPr/>
            <p:nvPr/>
          </p:nvSpPr>
          <p:spPr>
            <a:xfrm>
              <a:off x="4876560" y="3657600"/>
              <a:ext cx="38124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3">
              <a:hlinkClick r:id="rId11"/>
            </p:cNvPr>
            <p:cNvSpPr/>
            <p:nvPr/>
          </p:nvSpPr>
          <p:spPr>
            <a:xfrm>
              <a:off x="8001000" y="358128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4">
              <a:hlinkClick r:id="rId12"/>
            </p:cNvPr>
            <p:cNvSpPr/>
            <p:nvPr/>
          </p:nvSpPr>
          <p:spPr>
            <a:xfrm>
              <a:off x="3504960" y="3657600"/>
              <a:ext cx="38124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5">
              <a:hlinkClick r:id="rId13"/>
            </p:cNvPr>
            <p:cNvSpPr/>
            <p:nvPr/>
          </p:nvSpPr>
          <p:spPr>
            <a:xfrm>
              <a:off x="6553080" y="365760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46">
            <a:hlinkClick r:id="rId14"/>
          </p:cNvPr>
          <p:cNvSpPr/>
          <p:nvPr/>
        </p:nvSpPr>
        <p:spPr>
          <a:xfrm>
            <a:off x="6553080" y="36576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47"/>
          <p:cNvGrpSpPr/>
          <p:nvPr/>
        </p:nvGrpSpPr>
        <p:grpSpPr>
          <a:xfrm>
            <a:off x="1276560" y="4648320"/>
            <a:ext cx="7190280" cy="1084680"/>
            <a:chOff x="1276560" y="4648320"/>
            <a:chExt cx="7190280" cy="1084680"/>
          </a:xfrm>
        </p:grpSpPr>
        <p:sp>
          <p:nvSpPr>
            <p:cNvPr id="389" name="Rectangle 48"/>
            <p:cNvSpPr/>
            <p:nvPr/>
          </p:nvSpPr>
          <p:spPr>
            <a:xfrm>
              <a:off x="8011800" y="5105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9"/>
            <p:cNvSpPr/>
            <p:nvPr/>
          </p:nvSpPr>
          <p:spPr>
            <a:xfrm>
              <a:off x="1803600" y="487692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0"/>
            <p:cNvSpPr/>
            <p:nvPr/>
          </p:nvSpPr>
          <p:spPr>
            <a:xfrm>
              <a:off x="3327480" y="525780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1"/>
            <p:cNvSpPr/>
            <p:nvPr/>
          </p:nvSpPr>
          <p:spPr>
            <a:xfrm>
              <a:off x="1276560" y="5029200"/>
              <a:ext cx="3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52"/>
            <p:cNvSpPr/>
            <p:nvPr/>
          </p:nvSpPr>
          <p:spPr>
            <a:xfrm>
              <a:off x="1676520" y="50292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53"/>
            <p:cNvSpPr/>
            <p:nvPr/>
          </p:nvSpPr>
          <p:spPr>
            <a:xfrm>
              <a:off x="4681440" y="525780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54"/>
            <p:cNvSpPr/>
            <p:nvPr/>
          </p:nvSpPr>
          <p:spPr>
            <a:xfrm>
              <a:off x="1861920" y="53341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55"/>
            <p:cNvSpPr/>
            <p:nvPr/>
          </p:nvSpPr>
          <p:spPr>
            <a:xfrm>
              <a:off x="5943600" y="5181840"/>
              <a:ext cx="17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56">
              <a:hlinkClick r:id="rId15"/>
            </p:cNvPr>
            <p:cNvSpPr/>
            <p:nvPr/>
          </p:nvSpPr>
          <p:spPr>
            <a:xfrm>
              <a:off x="6553440" y="472464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7">
              <a:hlinkClick r:id="rId16"/>
            </p:cNvPr>
            <p:cNvSpPr/>
            <p:nvPr/>
          </p:nvSpPr>
          <p:spPr>
            <a:xfrm>
              <a:off x="4876920" y="472464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8">
              <a:hlinkClick r:id="rId17"/>
            </p:cNvPr>
            <p:cNvSpPr/>
            <p:nvPr/>
          </p:nvSpPr>
          <p:spPr>
            <a:xfrm>
              <a:off x="3505320" y="472464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9">
              <a:hlinkClick r:id="rId18"/>
            </p:cNvPr>
            <p:cNvSpPr/>
            <p:nvPr/>
          </p:nvSpPr>
          <p:spPr>
            <a:xfrm>
              <a:off x="8077320" y="46483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60">
            <a:hlinkClick r:id="rId19"/>
          </p:cNvPr>
          <p:cNvSpPr/>
          <p:nvPr/>
        </p:nvSpPr>
        <p:spPr>
          <a:xfrm>
            <a:off x="8077320" y="46483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1">
            <a:hlinkClick r:id="rId20"/>
          </p:cNvPr>
          <p:cNvSpPr/>
          <p:nvPr/>
        </p:nvSpPr>
        <p:spPr>
          <a:xfrm>
            <a:off x="4876920" y="16765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0" y="508464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1"/>
          <a:stretch/>
        </p:blipFill>
        <p:spPr>
          <a:xfrm>
            <a:off x="4140360" y="4653000"/>
            <a:ext cx="1884240" cy="647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"/>
          <p:cNvPicPr/>
          <p:nvPr/>
        </p:nvPicPr>
        <p:blipFill>
          <a:blip r:embed="rId2"/>
          <a:stretch/>
        </p:blipFill>
        <p:spPr>
          <a:xfrm>
            <a:off x="4572000" y="5013360"/>
            <a:ext cx="1224000" cy="2998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3"/>
          <p:cNvGrpSpPr/>
          <p:nvPr/>
        </p:nvGrpSpPr>
        <p:grpSpPr>
          <a:xfrm>
            <a:off x="2411280" y="5157720"/>
            <a:ext cx="3240000" cy="656640"/>
            <a:chOff x="2411280" y="5157720"/>
            <a:chExt cx="3240000" cy="656640"/>
          </a:xfrm>
        </p:grpSpPr>
        <p:sp>
          <p:nvSpPr>
            <p:cNvPr id="407" name="Line 14"/>
            <p:cNvSpPr/>
            <p:nvPr/>
          </p:nvSpPr>
          <p:spPr>
            <a:xfrm>
              <a:off x="2411280" y="5314680"/>
              <a:ext cx="3240000" cy="18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3276360" y="5162400"/>
              <a:ext cx="144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4178160" y="5157720"/>
              <a:ext cx="144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7"/>
            <p:cNvSpPr/>
            <p:nvPr/>
          </p:nvSpPr>
          <p:spPr>
            <a:xfrm>
              <a:off x="4609800" y="5157720"/>
              <a:ext cx="144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2411280" y="5294160"/>
              <a:ext cx="25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   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　 　　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9"/>
          <p:cNvGrpSpPr/>
          <p:nvPr/>
        </p:nvGrpSpPr>
        <p:grpSpPr>
          <a:xfrm>
            <a:off x="250920" y="0"/>
            <a:ext cx="2698200" cy="765000"/>
            <a:chOff x="250920" y="0"/>
            <a:chExt cx="2698200" cy="765000"/>
          </a:xfrm>
        </p:grpSpPr>
        <p:sp>
          <p:nvSpPr>
            <p:cNvPr id="413" name="Oval 20"/>
            <p:cNvSpPr/>
            <p:nvPr/>
          </p:nvSpPr>
          <p:spPr>
            <a:xfrm>
              <a:off x="250920" y="0"/>
              <a:ext cx="2663640" cy="76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357120" y="150840"/>
              <a:ext cx="25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会了吗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?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试试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22"/>
          <p:cNvSpPr/>
          <p:nvPr/>
        </p:nvSpPr>
        <p:spPr>
          <a:xfrm>
            <a:off x="395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不等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1619280" y="220500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不等式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&gt;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不等式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不等式①和 ②的解集在数轴上表示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Object 24" descr=""/>
          <p:cNvPicPr/>
          <p:nvPr/>
        </p:nvPicPr>
        <p:blipFill>
          <a:blip r:embed="rId3"/>
          <a:stretch/>
        </p:blipFill>
        <p:spPr>
          <a:xfrm>
            <a:off x="3276720" y="1004760"/>
            <a:ext cx="2087280" cy="112896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6"/>
          <p:cNvSpPr/>
          <p:nvPr/>
        </p:nvSpPr>
        <p:spPr>
          <a:xfrm>
            <a:off x="5383800" y="16286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5383800" y="10526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2195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不等式组的解集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6"/>
          <p:cNvSpPr/>
          <p:nvPr/>
        </p:nvSpPr>
        <p:spPr>
          <a:xfrm>
            <a:off x="4572000" y="530064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37"/>
          <p:cNvSpPr/>
          <p:nvPr/>
        </p:nvSpPr>
        <p:spPr>
          <a:xfrm>
            <a:off x="4140360" y="5229360"/>
            <a:ext cx="107640" cy="10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Object 43" descr=""/>
          <p:cNvPicPr/>
          <p:nvPr/>
        </p:nvPicPr>
        <p:blipFill>
          <a:blip r:embed="rId4"/>
          <a:stretch/>
        </p:blipFill>
        <p:spPr>
          <a:xfrm>
            <a:off x="5560920" y="5776920"/>
            <a:ext cx="115272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187280" y="1125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一元一次不等式组的步骤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143000" y="2286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不等式组中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每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等式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解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143000" y="3124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数轴找出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所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等式解集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公共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143000" y="39625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用不等式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不等式组的解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831600" y="385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533520" y="533520"/>
            <a:ext cx="2209680" cy="542880"/>
            <a:chOff x="533520" y="533520"/>
            <a:chExt cx="2209680" cy="542880"/>
          </a:xfrm>
        </p:grpSpPr>
        <p:pic>
          <p:nvPicPr>
            <p:cNvPr id="431" name="Picture 3" descr="BD14579_"/>
            <p:cNvPicPr/>
            <p:nvPr/>
          </p:nvPicPr>
          <p:blipFill>
            <a:blip r:embed="rId1"/>
            <a:stretch/>
          </p:blipFill>
          <p:spPr>
            <a:xfrm>
              <a:off x="533520" y="5335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4"/>
            <p:cNvSpPr/>
            <p:nvPr/>
          </p:nvSpPr>
          <p:spPr>
            <a:xfrm>
              <a:off x="1143000" y="533520"/>
              <a:ext cx="1600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课堂小结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5"/>
          <p:cNvSpPr/>
          <p:nvPr/>
        </p:nvSpPr>
        <p:spPr>
          <a:xfrm>
            <a:off x="755640" y="1413000"/>
            <a:ext cx="748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元一次不等式组中各个不等式的解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共部分叫做这个一元一次不等式组的解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不等式组解集的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解不等式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762120" y="30481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解一元一次不等式组的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143000" y="35053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不等式组中各个不等式的解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1143000" y="41911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数轴找出所有不等式解集的公共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1143000" y="4800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不等式表示出不等式组的解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549360"/>
            <a:ext cx="763272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知识链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解一元一次不等式的步骤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最后一步系数化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时需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用数轴表示解集时需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826920" y="836640"/>
            <a:ext cx="85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一元一次不等式组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900000" y="177336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数轴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几个解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公共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900000" y="2708280"/>
            <a:ext cx="77756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规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同大取大，同小取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大小小大中间找，大大小小找不到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3"/>
          <p:cNvSpPr/>
          <p:nvPr/>
        </p:nvSpPr>
        <p:spPr>
          <a:xfrm>
            <a:off x="684360" y="620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达标测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042920" y="1773360"/>
            <a:ext cx="727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解下列不等式组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Object 5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2016360" cy="935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Object 7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1"/>
          <p:cNvSpPr/>
          <p:nvPr/>
        </p:nvSpPr>
        <p:spPr>
          <a:xfrm>
            <a:off x="1013040" y="4653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371600" y="9882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03280" y="2203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课本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34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页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习题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>
            <a:off x="1042920" y="1557360"/>
            <a:ext cx="7274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9640" y="2997360"/>
            <a:ext cx="86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学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根据上图对话片断估计出这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象的体重范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说说你的理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设大象的体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用不等式分别表示上面两位同学所谈话的内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11"/>
          <p:cNvPicPr/>
          <p:nvPr/>
        </p:nvPicPr>
        <p:blipFill>
          <a:blip r:embed="rId1"/>
          <a:stretch/>
        </p:blipFill>
        <p:spPr>
          <a:xfrm>
            <a:off x="1763640" y="0"/>
            <a:ext cx="5124600" cy="30574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4" descr=""/>
          <p:cNvPicPr/>
          <p:nvPr/>
        </p:nvPicPr>
        <p:blipFill>
          <a:blip r:embed="rId2"/>
          <a:stretch/>
        </p:blipFill>
        <p:spPr>
          <a:xfrm>
            <a:off x="1685880" y="5183280"/>
            <a:ext cx="1451160" cy="625320"/>
          </a:xfrm>
          <a:prstGeom prst="rect">
            <a:avLst/>
          </a:prstGeom>
          <a:ln w="0">
            <a:noFill/>
          </a:ln>
        </p:spPr>
      </p:pic>
      <p:pic>
        <p:nvPicPr>
          <p:cNvPr id="46" name="Object 5" descr=""/>
          <p:cNvPicPr/>
          <p:nvPr/>
        </p:nvPicPr>
        <p:blipFill>
          <a:blip r:embed="rId3"/>
          <a:stretch/>
        </p:blipFill>
        <p:spPr>
          <a:xfrm>
            <a:off x="1835280" y="5372280"/>
            <a:ext cx="1427040" cy="510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276720" y="5373720"/>
            <a:ext cx="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297960" y="47005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3816360" y="4149720"/>
            <a:ext cx="5327640" cy="2349360"/>
            <a:chOff x="3816360" y="4149720"/>
            <a:chExt cx="5327640" cy="2349360"/>
          </a:xfrm>
        </p:grpSpPr>
        <p:sp>
          <p:nvSpPr>
            <p:cNvPr id="50" name="AutoShape 9"/>
            <p:cNvSpPr/>
            <p:nvPr/>
          </p:nvSpPr>
          <p:spPr>
            <a:xfrm>
              <a:off x="3816360" y="4149720"/>
              <a:ext cx="5327640" cy="2349360"/>
            </a:xfrm>
            <a:prstGeom prst="cloudCallout">
              <a:avLst>
                <a:gd name="adj1" fmla="val -43356"/>
                <a:gd name="adj2" fmla="val 67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4391280" y="4581360"/>
              <a:ext cx="457200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类似于方程组，把这两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一元一次不等式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合起来，组成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一元一次不等式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Object 11" descr=""/>
          <p:cNvPicPr/>
          <p:nvPr/>
        </p:nvPicPr>
        <p:blipFill>
          <a:blip r:embed="rId4"/>
          <a:stretch/>
        </p:blipFill>
        <p:spPr>
          <a:xfrm>
            <a:off x="1476360" y="4941720"/>
            <a:ext cx="676440" cy="81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SC00783"/>
          <p:cNvPicPr/>
          <p:nvPr/>
        </p:nvPicPr>
        <p:blipFill>
          <a:blip r:embed="rId5"/>
          <a:stretch/>
        </p:blipFill>
        <p:spPr>
          <a:xfrm>
            <a:off x="1440" y="0"/>
            <a:ext cx="2482920" cy="31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SC00780"/>
          <p:cNvPicPr/>
          <p:nvPr/>
        </p:nvPicPr>
        <p:blipFill>
          <a:blip r:embed="rId6"/>
          <a:stretch/>
        </p:blipFill>
        <p:spPr>
          <a:xfrm>
            <a:off x="6819840" y="0"/>
            <a:ext cx="232416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Freeform 15"/>
          <p:cNvSpPr/>
          <p:nvPr/>
        </p:nvSpPr>
        <p:spPr>
          <a:xfrm>
            <a:off x="1403280" y="1700280"/>
            <a:ext cx="3032280" cy="1224000"/>
          </a:xfrm>
          <a:custGeom>
            <a:avLst/>
            <a:gdLst/>
            <a:ahLst/>
            <a:rect l="l" t="t" r="r" b="b"/>
            <a:pathLst>
              <a:path w="1417" h="649">
                <a:moveTo>
                  <a:pt x="101" y="585"/>
                </a:moveTo>
                <a:cubicBezTo>
                  <a:pt x="118" y="516"/>
                  <a:pt x="146" y="529"/>
                  <a:pt x="220" y="521"/>
                </a:cubicBezTo>
                <a:cubicBezTo>
                  <a:pt x="334" y="532"/>
                  <a:pt x="432" y="568"/>
                  <a:pt x="540" y="603"/>
                </a:cubicBezTo>
                <a:cubicBezTo>
                  <a:pt x="577" y="615"/>
                  <a:pt x="613" y="628"/>
                  <a:pt x="649" y="640"/>
                </a:cubicBezTo>
                <a:cubicBezTo>
                  <a:pt x="658" y="643"/>
                  <a:pt x="677" y="649"/>
                  <a:pt x="677" y="649"/>
                </a:cubicBezTo>
                <a:cubicBezTo>
                  <a:pt x="895" y="634"/>
                  <a:pt x="740" y="648"/>
                  <a:pt x="851" y="612"/>
                </a:cubicBezTo>
                <a:cubicBezTo>
                  <a:pt x="907" y="529"/>
                  <a:pt x="1031" y="530"/>
                  <a:pt x="1116" y="503"/>
                </a:cubicBezTo>
                <a:cubicBezTo>
                  <a:pt x="1179" y="509"/>
                  <a:pt x="1205" y="510"/>
                  <a:pt x="1262" y="521"/>
                </a:cubicBezTo>
                <a:cubicBezTo>
                  <a:pt x="1274" y="523"/>
                  <a:pt x="1287" y="526"/>
                  <a:pt x="1299" y="530"/>
                </a:cubicBezTo>
                <a:cubicBezTo>
                  <a:pt x="1317" y="535"/>
                  <a:pt x="1353" y="548"/>
                  <a:pt x="1353" y="548"/>
                </a:cubicBezTo>
                <a:cubicBezTo>
                  <a:pt x="1409" y="534"/>
                  <a:pt x="1395" y="529"/>
                  <a:pt x="1408" y="475"/>
                </a:cubicBezTo>
                <a:cubicBezTo>
                  <a:pt x="1399" y="438"/>
                  <a:pt x="1387" y="420"/>
                  <a:pt x="1399" y="384"/>
                </a:cubicBezTo>
                <a:cubicBezTo>
                  <a:pt x="1417" y="271"/>
                  <a:pt x="1410" y="199"/>
                  <a:pt x="1317" y="137"/>
                </a:cubicBezTo>
                <a:cubicBezTo>
                  <a:pt x="1294" y="64"/>
                  <a:pt x="1329" y="147"/>
                  <a:pt x="1280" y="100"/>
                </a:cubicBezTo>
                <a:cubicBezTo>
                  <a:pt x="1273" y="93"/>
                  <a:pt x="1277" y="80"/>
                  <a:pt x="1271" y="73"/>
                </a:cubicBezTo>
                <a:cubicBezTo>
                  <a:pt x="1264" y="65"/>
                  <a:pt x="1252" y="62"/>
                  <a:pt x="1244" y="55"/>
                </a:cubicBezTo>
                <a:cubicBezTo>
                  <a:pt x="1237" y="49"/>
                  <a:pt x="1233" y="40"/>
                  <a:pt x="1225" y="36"/>
                </a:cubicBezTo>
                <a:cubicBezTo>
                  <a:pt x="1208" y="27"/>
                  <a:pt x="1189" y="24"/>
                  <a:pt x="1171" y="18"/>
                </a:cubicBezTo>
                <a:cubicBezTo>
                  <a:pt x="1162" y="15"/>
                  <a:pt x="1143" y="9"/>
                  <a:pt x="1143" y="9"/>
                </a:cubicBezTo>
                <a:cubicBezTo>
                  <a:pt x="1052" y="20"/>
                  <a:pt x="1093" y="10"/>
                  <a:pt x="1015" y="36"/>
                </a:cubicBezTo>
                <a:cubicBezTo>
                  <a:pt x="1006" y="39"/>
                  <a:pt x="988" y="45"/>
                  <a:pt x="988" y="45"/>
                </a:cubicBezTo>
                <a:cubicBezTo>
                  <a:pt x="912" y="42"/>
                  <a:pt x="835" y="41"/>
                  <a:pt x="759" y="36"/>
                </a:cubicBezTo>
                <a:cubicBezTo>
                  <a:pt x="725" y="34"/>
                  <a:pt x="690" y="19"/>
                  <a:pt x="659" y="9"/>
                </a:cubicBezTo>
                <a:cubicBezTo>
                  <a:pt x="650" y="6"/>
                  <a:pt x="631" y="0"/>
                  <a:pt x="631" y="0"/>
                </a:cubicBezTo>
                <a:cubicBezTo>
                  <a:pt x="598" y="7"/>
                  <a:pt x="563" y="6"/>
                  <a:pt x="531" y="18"/>
                </a:cubicBezTo>
                <a:cubicBezTo>
                  <a:pt x="523" y="21"/>
                  <a:pt x="520" y="32"/>
                  <a:pt x="512" y="36"/>
                </a:cubicBezTo>
                <a:cubicBezTo>
                  <a:pt x="491" y="46"/>
                  <a:pt x="427" y="74"/>
                  <a:pt x="403" y="82"/>
                </a:cubicBezTo>
                <a:cubicBezTo>
                  <a:pt x="363" y="120"/>
                  <a:pt x="344" y="107"/>
                  <a:pt x="284" y="100"/>
                </a:cubicBezTo>
                <a:cubicBezTo>
                  <a:pt x="235" y="84"/>
                  <a:pt x="193" y="102"/>
                  <a:pt x="147" y="119"/>
                </a:cubicBezTo>
                <a:cubicBezTo>
                  <a:pt x="132" y="159"/>
                  <a:pt x="114" y="151"/>
                  <a:pt x="101" y="192"/>
                </a:cubicBezTo>
                <a:cubicBezTo>
                  <a:pt x="92" y="267"/>
                  <a:pt x="72" y="401"/>
                  <a:pt x="28" y="466"/>
                </a:cubicBezTo>
                <a:cubicBezTo>
                  <a:pt x="20" y="497"/>
                  <a:pt x="10" y="526"/>
                  <a:pt x="0" y="557"/>
                </a:cubicBezTo>
                <a:cubicBezTo>
                  <a:pt x="41" y="572"/>
                  <a:pt x="35" y="575"/>
                  <a:pt x="92" y="557"/>
                </a:cubicBezTo>
                <a:cubicBezTo>
                  <a:pt x="102" y="554"/>
                  <a:pt x="116" y="529"/>
                  <a:pt x="119" y="539"/>
                </a:cubicBezTo>
                <a:cubicBezTo>
                  <a:pt x="124" y="555"/>
                  <a:pt x="107" y="570"/>
                  <a:pt x="101" y="5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1692360" y="191628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头大象好大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重肯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643280" y="189000"/>
            <a:ext cx="2664000" cy="1439640"/>
          </a:xfrm>
          <a:custGeom>
            <a:avLst/>
            <a:gdLst/>
            <a:ahLst/>
            <a:rect l="l" t="t" r="r" b="b"/>
            <a:pathLst>
              <a:path w="1141" h="759">
                <a:moveTo>
                  <a:pt x="1062" y="722"/>
                </a:moveTo>
                <a:cubicBezTo>
                  <a:pt x="1053" y="716"/>
                  <a:pt x="1041" y="713"/>
                  <a:pt x="1034" y="704"/>
                </a:cubicBezTo>
                <a:cubicBezTo>
                  <a:pt x="1028" y="697"/>
                  <a:pt x="1032" y="684"/>
                  <a:pt x="1025" y="677"/>
                </a:cubicBezTo>
                <a:cubicBezTo>
                  <a:pt x="1009" y="661"/>
                  <a:pt x="982" y="664"/>
                  <a:pt x="961" y="658"/>
                </a:cubicBezTo>
                <a:cubicBezTo>
                  <a:pt x="776" y="670"/>
                  <a:pt x="598" y="696"/>
                  <a:pt x="413" y="704"/>
                </a:cubicBezTo>
                <a:cubicBezTo>
                  <a:pt x="319" y="692"/>
                  <a:pt x="220" y="669"/>
                  <a:pt x="129" y="640"/>
                </a:cubicBezTo>
                <a:cubicBezTo>
                  <a:pt x="67" y="599"/>
                  <a:pt x="89" y="620"/>
                  <a:pt x="56" y="585"/>
                </a:cubicBezTo>
                <a:cubicBezTo>
                  <a:pt x="35" y="521"/>
                  <a:pt x="44" y="548"/>
                  <a:pt x="29" y="503"/>
                </a:cubicBezTo>
                <a:cubicBezTo>
                  <a:pt x="26" y="494"/>
                  <a:pt x="20" y="476"/>
                  <a:pt x="20" y="476"/>
                </a:cubicBezTo>
                <a:cubicBezTo>
                  <a:pt x="15" y="349"/>
                  <a:pt x="0" y="227"/>
                  <a:pt x="20" y="101"/>
                </a:cubicBezTo>
                <a:cubicBezTo>
                  <a:pt x="21" y="94"/>
                  <a:pt x="39" y="29"/>
                  <a:pt x="56" y="18"/>
                </a:cubicBezTo>
                <a:cubicBezTo>
                  <a:pt x="72" y="8"/>
                  <a:pt x="111" y="0"/>
                  <a:pt x="111" y="0"/>
                </a:cubicBezTo>
                <a:cubicBezTo>
                  <a:pt x="242" y="14"/>
                  <a:pt x="364" y="53"/>
                  <a:pt x="495" y="64"/>
                </a:cubicBezTo>
                <a:cubicBezTo>
                  <a:pt x="535" y="61"/>
                  <a:pt x="575" y="61"/>
                  <a:pt x="614" y="55"/>
                </a:cubicBezTo>
                <a:cubicBezTo>
                  <a:pt x="633" y="52"/>
                  <a:pt x="669" y="37"/>
                  <a:pt x="669" y="37"/>
                </a:cubicBezTo>
                <a:cubicBezTo>
                  <a:pt x="695" y="10"/>
                  <a:pt x="725" y="12"/>
                  <a:pt x="760" y="0"/>
                </a:cubicBezTo>
                <a:cubicBezTo>
                  <a:pt x="867" y="8"/>
                  <a:pt x="914" y="2"/>
                  <a:pt x="989" y="73"/>
                </a:cubicBezTo>
                <a:cubicBezTo>
                  <a:pt x="1042" y="236"/>
                  <a:pt x="1078" y="407"/>
                  <a:pt x="1108" y="576"/>
                </a:cubicBezTo>
                <a:cubicBezTo>
                  <a:pt x="1111" y="592"/>
                  <a:pt x="1141" y="728"/>
                  <a:pt x="1135" y="750"/>
                </a:cubicBezTo>
                <a:cubicBezTo>
                  <a:pt x="1133" y="759"/>
                  <a:pt x="1117" y="744"/>
                  <a:pt x="1108" y="741"/>
                </a:cubicBezTo>
                <a:cubicBezTo>
                  <a:pt x="1093" y="735"/>
                  <a:pt x="1077" y="728"/>
                  <a:pt x="1062" y="722"/>
                </a:cubicBezTo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16360" y="33336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听管理员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头大象的体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WordArt 2" descr=""/>
          <p:cNvPicPr/>
          <p:nvPr/>
        </p:nvPicPr>
        <p:blipFill>
          <a:blip r:embed="rId1"/>
          <a:stretch/>
        </p:blipFill>
        <p:spPr>
          <a:xfrm>
            <a:off x="1330200" y="1922400"/>
            <a:ext cx="690408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42920" y="692280"/>
            <a:ext cx="65534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理解一元一次不等式组的概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解集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掌握一元一次不等式组的解法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解集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116000" y="404640"/>
            <a:ext cx="748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自读课本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3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页，理解一元一次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等式组及其解集的</a:t>
            </a:r>
            <a:r>
              <a:rPr b="1" i="1" lang="zh-CN" sz="3200" spc="-1" strike="noStrike" u="sng">
                <a:solidFill>
                  <a:srgbClr val="009900"/>
                </a:solidFill>
                <a:uFillTx/>
                <a:latin typeface="隶书"/>
                <a:ea typeface="隶书"/>
              </a:rPr>
              <a:t>概念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自学例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思考解不等式组的</a:t>
            </a:r>
            <a:r>
              <a:rPr b="1" i="1" lang="zh-CN" sz="3200" spc="-1" strike="noStrike" u="sng">
                <a:solidFill>
                  <a:srgbClr val="009900"/>
                </a:solidFill>
                <a:uFillTx/>
                <a:latin typeface="隶书"/>
                <a:ea typeface="隶书"/>
              </a:rPr>
              <a:t>步骤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及需要注意的</a:t>
            </a:r>
            <a:r>
              <a:rPr b="1" i="1" lang="zh-CN" sz="3200" spc="-1" strike="noStrike" u="sng">
                <a:solidFill>
                  <a:srgbClr val="009900"/>
                </a:solidFill>
                <a:uFillTx/>
                <a:latin typeface="隶书"/>
                <a:ea typeface="隶书"/>
              </a:rPr>
              <a:t>格式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826920" y="2852640"/>
            <a:ext cx="777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注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不等式必须为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一元一次不等式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必须是只含有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同一个未知数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的数量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至少是两个或者多个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5280" y="1052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于方程组，把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两个或两个以上的一元一次不等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起来，就组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元一次不等式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250920" y="189000"/>
            <a:ext cx="2195280" cy="765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点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151308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314880" y="1341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76720" y="836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2360" y="31258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手操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250920" y="115920"/>
            <a:ext cx="2195280" cy="765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点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4452840" y="285264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2627280" y="2990880"/>
            <a:ext cx="2808360" cy="4651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5"/>
          <p:cNvGrpSpPr/>
          <p:nvPr/>
        </p:nvGrpSpPr>
        <p:grpSpPr>
          <a:xfrm>
            <a:off x="1908000" y="3213000"/>
            <a:ext cx="6433920" cy="446760"/>
            <a:chOff x="1908000" y="3213000"/>
            <a:chExt cx="6433920" cy="446760"/>
          </a:xfrm>
        </p:grpSpPr>
        <p:sp>
          <p:nvSpPr>
            <p:cNvPr id="73" name="Line 16"/>
            <p:cNvSpPr/>
            <p:nvPr/>
          </p:nvSpPr>
          <p:spPr>
            <a:xfrm>
              <a:off x="1908000" y="3378240"/>
              <a:ext cx="446400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26794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650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3133440" y="32130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228564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4035240" y="32209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2"/>
            <p:cNvSpPr/>
            <p:nvPr/>
          </p:nvSpPr>
          <p:spPr>
            <a:xfrm>
              <a:off x="4466880" y="32209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3"/>
            <p:cNvSpPr/>
            <p:nvPr/>
          </p:nvSpPr>
          <p:spPr>
            <a:xfrm>
              <a:off x="4916160" y="32209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4"/>
            <p:cNvSpPr/>
            <p:nvPr/>
          </p:nvSpPr>
          <p:spPr>
            <a:xfrm>
              <a:off x="53560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5"/>
            <p:cNvSpPr/>
            <p:nvPr/>
          </p:nvSpPr>
          <p:spPr>
            <a:xfrm>
              <a:off x="57844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2077560" y="3352680"/>
              <a:ext cx="626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1"/>
          <p:cNvSpPr/>
          <p:nvPr/>
        </p:nvSpPr>
        <p:spPr>
          <a:xfrm>
            <a:off x="1668600" y="4199040"/>
            <a:ext cx="72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元一次不等式组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所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解集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公共部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这个一元一次不等式组的解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不等式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是求它的解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95280" y="220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同一数轴上分别表示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① 、②的解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4498920" y="306216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468360" y="4095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结论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148360" y="29178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4282920" y="2925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95280" y="836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列各式中，哪些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元一次不等式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312408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231840" y="4076640"/>
            <a:ext cx="246852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Object 4" descr=""/>
          <p:cNvPicPr/>
          <p:nvPr/>
        </p:nvPicPr>
        <p:blipFill>
          <a:blip r:embed="rId3"/>
          <a:stretch/>
        </p:blipFill>
        <p:spPr>
          <a:xfrm>
            <a:off x="3132000" y="4076640"/>
            <a:ext cx="2592360" cy="1262160"/>
          </a:xfrm>
          <a:prstGeom prst="rect">
            <a:avLst/>
          </a:prstGeom>
          <a:ln w="0">
            <a:noFill/>
          </a:ln>
        </p:spPr>
      </p:pic>
      <p:pic>
        <p:nvPicPr>
          <p:cNvPr id="94" name="Object 5" descr=""/>
          <p:cNvPicPr/>
          <p:nvPr/>
        </p:nvPicPr>
        <p:blipFill>
          <a:blip r:embed="rId4"/>
          <a:stretch/>
        </p:blipFill>
        <p:spPr>
          <a:xfrm>
            <a:off x="6126120" y="3762360"/>
            <a:ext cx="2567160" cy="1970280"/>
          </a:xfrm>
          <a:prstGeom prst="rect">
            <a:avLst/>
          </a:prstGeom>
          <a:ln w="0">
            <a:noFill/>
          </a:ln>
        </p:spPr>
      </p:pic>
      <p:pic>
        <p:nvPicPr>
          <p:cNvPr id="95" name="Object 7" descr=""/>
          <p:cNvPicPr/>
          <p:nvPr/>
        </p:nvPicPr>
        <p:blipFill>
          <a:blip r:embed="rId5"/>
          <a:stretch/>
        </p:blipFill>
        <p:spPr>
          <a:xfrm>
            <a:off x="182520" y="1700280"/>
            <a:ext cx="3021120" cy="1235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258920" y="25639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932360" y="270828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524720" y="54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258920" y="5084640"/>
            <a:ext cx="12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572000" y="515772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8" descr=""/>
          <p:cNvPicPr/>
          <p:nvPr/>
        </p:nvPicPr>
        <p:blipFill>
          <a:blip r:embed="rId6"/>
          <a:stretch/>
        </p:blipFill>
        <p:spPr>
          <a:xfrm>
            <a:off x="6227640" y="1484280"/>
            <a:ext cx="2382840" cy="1674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5"/>
          <p:cNvSpPr/>
          <p:nvPr/>
        </p:nvSpPr>
        <p:spPr>
          <a:xfrm>
            <a:off x="7667640" y="27795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68360" y="189000"/>
            <a:ext cx="2087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试身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8:00:50Z</dcterms:created>
  <dc:creator> </dc:creator>
  <dc:description/>
  <dc:language>en-US</dc:language>
  <cp:lastModifiedBy>Administrator</cp:lastModifiedBy>
  <dcterms:modified xsi:type="dcterms:W3CDTF">2018-12-28T08:04:1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